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84972"/>
        <c:axId val="61033775"/>
      </c:barChart>
      <c:catAx>
        <c:axId val="76384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33775"/>
        <c:crosses val="autoZero"/>
        <c:auto val="1"/>
        <c:lblAlgn val="ctr"/>
        <c:lblOffset val="100"/>
        <c:noMultiLvlLbl val="0"/>
      </c:catAx>
      <c:valAx>
        <c:axId val="61033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4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E29-3F2E-4011-AF6E-205D9843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F3F-BA02-47AD-8285-B443869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89C-2176-4881-A68D-5B16F4DF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6FE-9EEC-4E66-A1F4-B8419ACB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669-A049-4D6F-83B5-3AA5E374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587-AF13-401B-85C3-A7594B8C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68D-5EFA-4559-B5BF-832B54BE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754-B18C-4ACD-8801-A820613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F19-B57D-48F8-B8C3-82434E8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B26-E0C6-43C3-98FE-B66A264B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A1E-5301-4D9A-A3D6-8ABF1BDB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325-9313-4580-ADFB-F66E83D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13A9-6AB6-4276-A02E-6C1797C3AA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