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03170"/>
        <c:axId val="93474779"/>
      </c:barChart>
      <c:catAx>
        <c:axId val="59903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4779"/>
        <c:crosses val="autoZero"/>
        <c:auto val="1"/>
        <c:lblAlgn val="ctr"/>
        <c:lblOffset val="100"/>
        <c:noMultiLvlLbl val="0"/>
      </c:catAx>
      <c:valAx>
        <c:axId val="93474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3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876-0609-4D02-8B7B-4EC659BA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3A8-7155-459D-917C-4323C848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230-7D58-42BD-97AE-FC417C9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577-BBC4-4687-968E-342751B9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064-C332-4F8E-ADB3-A0839F84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3A1-AC2F-42D2-84EE-2E96FCE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BEF-70B5-4DCB-A06C-242A4A90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609-BC4C-43AE-B3F7-736C3998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A29-2B9C-4CB5-8523-996F40B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FCB-5B95-4D19-B3E6-0857766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060-4485-47CA-B436-61B1C4D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C41-7A4B-4733-A2C3-B1F190E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652EC-695D-4701-AA66-1EECA39C5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