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5F7E55-6D6F-4E84-90A5-18332ACCC00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hyperlink" Target="http://localhost:8888/web2/resource/autogroup/monitor/Visibility.do?mode=currentHealth&amp;eid=2%3A10007&amp;ctype=3%3A10029" TargetMode="External"/><Relationship Id="rId2" Type="http://schemas.openxmlformats.org/officeDocument/2006/relationships/slide" Target="../slides/slide6.xml"/><Relationship Id="rId3"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hyperlink" Target="http://localhost:7080/resource/autogroup/monitor/Visibility.do?mode=currentHealth&amp;eid=2%3A10007&amp;ctype=3%3A10030" TargetMode="External"/><Relationship Id="rId2" Type="http://schemas.openxmlformats.org/officeDocument/2006/relationships/slide" Target="../slides/slide8.xml"/><Relationship Id="rId3"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MO: Create an alert for the JBoss 3.2 instance and show the various option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TAKEN FROM THE ONLINE HELP:</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When creating an alert you have the ability to filter the alert based on the following setting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Disable alert until re-enabled manually or by recovery alert</a:t>
            </a:r>
            <a:r>
              <a:rPr b="0" lang="en-US" sz="800" spc="-1" strike="noStrike">
                <a:solidFill>
                  <a:srgbClr val="000000"/>
                </a:solidFill>
                <a:latin typeface="Arial"/>
              </a:rPr>
              <a:t> </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This is the configuration option that will prevent 'alert storms'. Selecting this option will disable the alert after it fires so it does not repeatedly fire. The alert will become re-enabled if it is re-enabled manually within JBN Enterprise Management or if a Recovery Alert re-enables it automatically.” A recovery alert is just an alert which goes off when a metric returns to normal, its main purpose is to turn back on alert which has already been triggered, so that is ready to fire again.</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Disregard control actions that are defined for related alerts.</a:t>
            </a:r>
            <a:r>
              <a:rPr b="0" lang="en-US" sz="800" spc="-1" strike="noStrike">
                <a:solidFill>
                  <a:srgbClr val="000000"/>
                </a:solidFill>
                <a:latin typeface="Arial"/>
              </a:rPr>
              <a:t> </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This option will only appear on New Alert Definition pages for resources that support control actions. This configuration option will make it so that if multiple alerts are fired within a short period from resources that are members of the same application, only one control action will be executed. This is to prevent a server from being restarted several times in a short period of time for the same alert conditions. An Example would be if you had an alert to restart a Tomcat server if the JVM Free Memory got too low and then another alert to restart the same server if the JVM Active Thread count got too high. If both of these alerts fired at the same time and they were filtering control actions, only 1 restart control action would be executed and not two. </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Filter notification actions that are defined for related alerts.</a:t>
            </a:r>
            <a:r>
              <a:rPr b="0" lang="en-US"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ssentially this is a way to group related alerts into a single notification.</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option only has an effect on resources that are members of an application. It is very useful for cutting down on the number of alerts from a single application. An example would be if you had several resources in an application and each with several alerts. If alerts started firing from several resources, and if each of the alerts was configured for filtering notifications, you would get a single email alert with all the alerts from all the resources consolidated in i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MO: create a recovery alert for the ‘Number of Requests Served per Minute’ alert which was created in the previous slide. Taking care to check the ‘Disable alert until re-enabled…’ box on the first alert.]</a:t>
            </a:r>
            <a:endParaRPr b="0" lang="en-US" sz="8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190440" indent="-19044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alert was created as part of the GUI1 lab, that was triggered when too many files were added to a folder. Add a recovery alert for this so that this alert gets fired once, and only once every time too many files are placed in the folder.</a:t>
            </a:r>
            <a:endParaRPr b="0" lang="en-US" sz="1200" spc="-1" strike="noStrike">
              <a:solidFill>
                <a:srgbClr val="000000"/>
              </a:solidFill>
              <a:latin typeface="Arial"/>
            </a:endParaRPr>
          </a:p>
          <a:p>
            <a:pPr marL="1904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90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make sure when creating the role that is has view, modify and control permissions on platforms, servers and serv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pdate is made by sending the customer a new license file which they copy into a folder in their JBN EM distrib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point out where the license file is in the install (server-x.y.z\conf). Also mention that currently to upgrade the metric collection interval needs to be set for every resource in the inventory, since they are turned off in the default version.]</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The implementation for Auto Scan varies among platforms. On Unix type platforms, the Auto Scan is performed using a process table scan, which looks for processes that match a given pattern. On Windows platforms </a:t>
            </a:r>
            <a:r>
              <a:rPr b="0" lang="en-US" sz="1200" spc="-1" strike="noStrike">
                <a:solidFill>
                  <a:srgbClr val="000000"/>
                </a:solidFill>
                <a:latin typeface="Arial"/>
              </a:rPr>
              <a:t>as well as a process table scan, </a:t>
            </a:r>
            <a:r>
              <a:rPr b="0" lang="en-US" sz="1000" spc="-1" strike="noStrike">
                <a:solidFill>
                  <a:srgbClr val="000000"/>
                </a:solidFill>
                <a:latin typeface="Arial"/>
              </a:rPr>
              <a:t>a simple registry scan is performed looking for registry keys that installed products register during their installation proces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Auto Scans are automatically run by the JBN Enterprise Management Agent on a daily schedule, as well as each time an agent is started.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This method involved scanning the file system for installed products. You can define parameters to specify which machines should be included in the auto-discovery, which directories should be searched, and which types of servers to discover.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The File Scan method must be initiated by the user using the New Auto-Discovery links found on all platform pages.” Its called “auto” discovery even though you can kick it off manually to differentiate it from manually adding and configuring new servers within JBN EM. Can be scheduled to scan on a recurring basi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MO: Hit the “New Auto Discovery” link for the platform, and show the various options which are available. Don’t run it until JBNMAN-161 is fixed.]</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BN EM supports grouping resources together to provide better control and better monitoring capabilitie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 are 4 types of group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You can create a group from any arbitrary set of resources, based on any attribute, such as geographical location, owner, business unit, and so on.”</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If you group resources that share a common set of monitoring metrics and control actions, that group is considered a </a:t>
            </a:r>
            <a:r>
              <a:rPr b="0" i="1" lang="en-US" sz="1000" spc="-1" strike="noStrike">
                <a:solidFill>
                  <a:srgbClr val="000000"/>
                </a:solidFill>
                <a:latin typeface="Arial"/>
              </a:rPr>
              <a:t>compatible group</a:t>
            </a:r>
            <a:r>
              <a:rPr b="0" lang="en-US" sz="1000" spc="-1" strike="noStrike">
                <a:solidFill>
                  <a:srgbClr val="000000"/>
                </a:solidFill>
                <a:latin typeface="Arial"/>
              </a:rPr>
              <a:t>. For example, you can organize all Apache 2.x servers into a compatible group. JBoss Network Enterprise Management can control, monitor, and inventory compatible group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MO: Create a compatible group made out of the 3 standard JCA Connection Pools, show how the metrics are aggregated and the Control tab is available, with the normal actions listed in i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 groups are meant to enable the gathering of all the services which make up a logical application, e.g. WebApp, EJB, Connection Pool. The aim is “to see the service level of the entire Application from end-to-end. You can also easily drill down to the service levels of the individual resources to see how they are performing.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will be able to view monitoring information for an application, but there will be no control actions since there is no guarantee that two services will have the same control act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xed Group allow you to gather together all resources involved with a process, e.g. the platform, the application server, the application. Mixed groups are particularly useful when combined with user roles to provide access control to resources. We shall see more of this in the later slid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You can view inventory information for a mixed group, but you cannot perform control actions on, monitor, or edit the group's inventory properties as a whole.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Create a Mixed group made up the Platform, the JBoss 3. 2 instance and the DefaultDS connection pool.]</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the name suggests you don’t manually create auto groups. Good example of how JBN EM create an auto group of all Message Driven EJB’s deployed in a JBoss instanc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ing the group allows you to see metrics for all these similar resources in one plac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Go to the JBoss 3.2 instance, go to the inventory page and click on </a:t>
            </a:r>
            <a:r>
              <a:rPr b="0" lang="en-US" sz="1200" spc="-1" strike="noStrike" u="sng">
                <a:solidFill>
                  <a:srgbClr val="009999"/>
                </a:solidFill>
                <a:uFillTx/>
                <a:latin typeface="Arial"/>
                <a:hlinkClick r:id="rId1"/>
              </a:rPr>
              <a:t>JBoss 3.2 Message Driven EJB</a:t>
            </a:r>
            <a:r>
              <a:rPr b="0" lang="en-US" sz="1200" spc="-1" strike="noStrike">
                <a:solidFill>
                  <a:srgbClr val="000000"/>
                </a:solidFill>
                <a:latin typeface="Arial"/>
              </a:rPr>
              <a:t> under Deployed Services Health].</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Because the platform, server, and service resources "stack" (in the sense that services run on servers that in turn run on platforms), permissions are also stacked. For instance, the permission to create a server (or any child object on a resource), is predicated on the parent resource allowing you to do so. For example, the permission to add a server is really associated with a platfor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MAY OR MAY NOT WANT TO DEMO THIS SINCE IT IS EXACTLY WHAT WE ARE GOING TO ASK PEOPLE TO DO IN THE LA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to the Administration page and create a new user, also create a new role and make sure it has view, modify and control permissions on platforms, servers and services. Finally associate the role with the platform+server+service group created on the previous slide. Assign the new user to the role. Logout and login as the new user, see that only the resources in the group are visible.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to the Monitor Page on a Platform and show the 3 charts displayed</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lick on the name of one of the charts and see the detailed view.</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to the Monitor Page on the JBoss Server and choose ‘</a:t>
            </a:r>
            <a:r>
              <a:rPr b="0" lang="en-US" sz="1200" spc="-1" strike="noStrike" u="sng">
                <a:solidFill>
                  <a:srgbClr val="009999"/>
                </a:solidFill>
                <a:uFillTx/>
                <a:latin typeface="Arial"/>
                <a:hlinkClick r:id="rId1"/>
              </a:rPr>
              <a:t>JBoss 3.2 JCA Connection Pool</a:t>
            </a:r>
            <a:r>
              <a:rPr b="0" lang="en-US" sz="1200" spc="-1" strike="noStrike">
                <a:solidFill>
                  <a:srgbClr val="000000"/>
                </a:solidFill>
                <a:latin typeface="Arial"/>
              </a:rPr>
              <a:t> ‘ from the list of Internal Services. In the new Monitor page which appears click the Metric Data tab and choose Total Connections. This will show the Total Connection metrics for every JCA Conn pool in the Server in a single chart.</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BN EM support the concepts of baselines of the metrics it collects e.g. determining low, average and high values for a metric. By default it considers the last 7days and recalculates the baseline every 3day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wo commons uses of baselin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rending Analysi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seful for analysis how current activity compare to recent activity, so is today’s spike in web traffic really unusually or is it similar to what’s happened over the past week.</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Using JBoss Network Enterprise Management, you establish and retain the same metric baseline value over a specific period of time, then include the baseline when you chart the current values of the metric. You can then identify trends that will help you to estimate future performanc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ception Management: Baselines are useful from an alerts perspective since they can be used to provide notification when a metric deviates substantially away from “normal”, without having to keeping changing the definition of normal. For instance if you just want to know when you web server hits a spike in traffic you could set an alert on the number of requests served exceeding 150% of the baseline value, without having to know precisely how much that i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MO: Set the baseline High value for the ‘Number of Requests Served per Minute’ metric on the Tomcat 4.1 instance which serves up the JBN EM portal, via the Metric Data tab on the Monitor page. Then set up the Alert as described above, say 150%.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8210AF5B-CED4-44F3-BA14-AA622AA8106F}"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GUI Details</a:t>
            </a:r>
            <a:endParaRPr b="0" lang="en-US" sz="3600" spc="-1" strike="noStrike">
              <a:solidFill>
                <a:srgbClr val="000000"/>
              </a:solidFill>
              <a:latin typeface="Verdana"/>
            </a:endParaRPr>
          </a:p>
        </p:txBody>
      </p:sp>
      <p:sp>
        <p:nvSpPr>
          <p:cNvPr id="9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dive into some details of the JBN Enterprise Management Portal</a:t>
            </a:r>
            <a:endParaRPr b="0" lang="en-US" sz="2800" spc="-1" strike="noStrike">
              <a:solidFill>
                <a:srgbClr val="000000"/>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on Alerts</a:t>
            </a:r>
            <a:endParaRPr b="0" lang="en-US" sz="3400" spc="-1" strike="noStrike">
              <a:solidFill>
                <a:srgbClr val="000000"/>
              </a:solidFill>
              <a:latin typeface="Verdana"/>
            </a:endParaRPr>
          </a:p>
        </p:txBody>
      </p:sp>
      <p:sp>
        <p:nvSpPr>
          <p:cNvPr id="10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lerts can be filtered conditionally:</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Disable alert until re-enabled manually or by recovery alert.</a:t>
            </a:r>
            <a:endParaRPr b="0" lang="en-US" sz="17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event alert ‘storms’ by disabling alert after its fired the first time.</a:t>
            </a:r>
            <a:endParaRPr b="0" lang="en-US" sz="14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Disregard control actions that are defined for related alerts.</a:t>
            </a:r>
            <a:endParaRPr b="0" lang="en-US" sz="17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alerts will not trigger the same control action.</a:t>
            </a:r>
            <a:endParaRPr b="0" lang="en-US" sz="14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Filter notification actions that are defined for related alerts.</a:t>
            </a:r>
            <a:endParaRPr b="0" lang="en-US" sz="17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alerts will be aggregated and only a single alert notification (e.g. email) will be issued.</a:t>
            </a:r>
            <a:endParaRPr b="0" lang="en-US" sz="1400" spc="-1" strike="noStrike">
              <a:solidFill>
                <a:srgbClr val="000000"/>
              </a:solidFill>
              <a:latin typeface="Verdana"/>
            </a:endParaRPr>
          </a:p>
          <a:p>
            <a:pPr lvl="2" marL="1305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an specify action invocation timing:</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mmediately upon detecting trigger condition.</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When frequency limit is exceeded in a given period.</a:t>
            </a:r>
            <a:endParaRPr b="0" lang="en-US" sz="1700" spc="-1" strike="noStrike">
              <a:solidFill>
                <a:srgbClr val="000000"/>
              </a:solidFill>
              <a:latin typeface="Verdana"/>
            </a:endParaRPr>
          </a:p>
          <a:p>
            <a:pPr lvl="1" marL="9079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an specify compound trigger events for an Alert:</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Event1 OR Event2 OR Event3.</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Event4 AND Event5.</a:t>
            </a:r>
            <a:endParaRPr b="0" lang="en-US" sz="1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1: Recovery Alerts</a:t>
            </a:r>
            <a:endParaRPr b="0" lang="en-US" sz="3400" spc="-1" strike="noStrike">
              <a:solidFill>
                <a:srgbClr val="000000"/>
              </a:solidFill>
              <a:latin typeface="Verdana"/>
            </a:endParaRPr>
          </a:p>
        </p:txBody>
      </p:sp>
      <p:sp>
        <p:nvSpPr>
          <p:cNvPr id="11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eps</a:t>
            </a:r>
            <a:endParaRPr b="0" lang="en-US" sz="30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reate a recovery alert for the FileDirectory service alert.</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rigger the alert and see only one alert is logged.</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move files from the watched folder, then put them back, and watch again for a single alert.</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2: User and Roles</a:t>
            </a:r>
            <a:endParaRPr b="0" lang="en-US" sz="3400" spc="-1" strike="noStrike">
              <a:solidFill>
                <a:srgbClr val="000000"/>
              </a:solidFill>
              <a:latin typeface="Verdana"/>
            </a:endParaRPr>
          </a:p>
        </p:txBody>
      </p:sp>
      <p:sp>
        <p:nvSpPr>
          <p:cNvPr id="11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eps:</a:t>
            </a:r>
            <a:endParaRPr b="0" lang="en-US" sz="30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reate a Mixed group, with a Platform, Server and Services.</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reate a role and associate it to group.</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reate a user and associate it to role.</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ogin as the user and check access is restricted to selected group of resource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ill cover the follow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ifferent License version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source Discove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Grouping Resourc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re on Permission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re on Metric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re on Alert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ab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ifferent Versions</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default version of JBN EM will have Availability monitoring.</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f the customer purchases further monitoring capabilities they will receive Throughput, Utilization and Performance monitoring.</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Discovery</a:t>
            </a:r>
            <a:endParaRPr b="0" lang="en-US" sz="34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wo mechanisms for adding managed resourc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 Scan</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ick.</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Looks in the registry (windows only) and process table.</a:t>
            </a:r>
            <a:endParaRPr b="0" lang="en-US" sz="2300" spc="-1" strike="noStrike">
              <a:solidFill>
                <a:srgbClr val="000000"/>
              </a:solidFill>
              <a:latin typeface="Verdana"/>
            </a:endParaRPr>
          </a:p>
          <a:p>
            <a:pPr lvl="2" marL="1305000" indent="0">
              <a:spcBef>
                <a:spcPts val="57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ile Scan</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low</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arches the file system.</a:t>
            </a:r>
            <a:endParaRPr b="0" lang="en-US" sz="23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Grouping Resources</a:t>
            </a:r>
            <a:endParaRPr b="0" lang="en-US" sz="3400" spc="-1" strike="noStrike">
              <a:solidFill>
                <a:srgbClr val="000000"/>
              </a:solidFill>
              <a:latin typeface="Verdana"/>
            </a:endParaRPr>
          </a:p>
        </p:txBody>
      </p:sp>
      <p:sp>
        <p:nvSpPr>
          <p:cNvPr id="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mpatible Group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l members must be of the same resource type, e.g. all JBoss 3.2 server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pplication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contain any one of the following: </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Service resources, or</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Groups of Service resources.</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Grouping Resources</a:t>
            </a:r>
            <a:endParaRPr b="0" lang="en-US" sz="3400" spc="-1" strike="noStrike">
              <a:solidFill>
                <a:srgbClr val="000000"/>
              </a:solidFill>
              <a:latin typeface="Verdana"/>
            </a:endParaRPr>
          </a:p>
        </p:txBody>
      </p:sp>
      <p:sp>
        <p:nvSpPr>
          <p:cNvPr id="1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ixed Group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contain any one of the following:</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Groups, or</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Platforms, Servers and Services, or</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Applications.</a:t>
            </a: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uto-Groups</a:t>
            </a:r>
            <a:endParaRPr b="0" lang="en-US" sz="30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reated by JBN-EM, used to provide naturally-occurring/obvious groups.</a:t>
            </a:r>
            <a:endParaRPr b="0" lang="en-US" sz="23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on Permissions</a:t>
            </a:r>
            <a:endParaRPr b="0" lang="en-US" sz="3400" spc="-1" strike="noStrike">
              <a:solidFill>
                <a:srgbClr val="000000"/>
              </a:solidFill>
              <a:latin typeface="Verdana"/>
            </a:endParaRPr>
          </a:p>
        </p:txBody>
      </p:sp>
      <p:sp>
        <p:nvSpPr>
          <p:cNvPr id="1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ermissions are ‘stacked’ as resources are:</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latform&gt;Server&gt;Service.</a:t>
            </a:r>
            <a:endParaRPr b="0" lang="en-US" sz="2600" spc="-1" strike="noStrike">
              <a:solidFill>
                <a:srgbClr val="000000"/>
              </a:solidFill>
              <a:latin typeface="Verdana"/>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 good use for Mixed groups is for doing access control.</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fine the group.</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fine the role.</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ssociate them.</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sult: User’s in that role will only be able to manage what is in that group.</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on Metrics</a:t>
            </a:r>
            <a:endParaRPr b="0" lang="en-US" sz="3400" spc="-1" strike="noStrike">
              <a:solidFill>
                <a:srgbClr val="000000"/>
              </a:solidFill>
              <a:latin typeface="Verdana"/>
            </a:endParaRPr>
          </a:p>
        </p:txBody>
      </p:sp>
      <p:sp>
        <p:nvSpPr>
          <p:cNvPr id="10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hart-typ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ultiple Metrics Single Resource</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Normal set of chart displayed on Monitor page.</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ingle Metric Single Resource</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etailed view.</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ingle Metric Multiple Resources</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en when viewing charts for groups, e.g. auto-groups and compatible groups.</a:t>
            </a: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harts can be saved to Dashboard.</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on Metrics</a:t>
            </a:r>
            <a:endParaRPr b="0" lang="en-US" sz="3400" spc="-1" strike="noStrike">
              <a:solidFill>
                <a:srgbClr val="000000"/>
              </a:solidFill>
              <a:latin typeface="Verdana"/>
            </a:endParaRPr>
          </a:p>
        </p:txBody>
      </p:sp>
      <p:sp>
        <p:nvSpPr>
          <p:cNvPr id="10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aseline for a metric:</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w/High/Average values over a rolling window.</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seful for trend analysis, and generating appropriate alerts.</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nce a metric enters its high or low range, i.e. it’s OOB (Out Of Bounds), it is marked as a Problem Resource. </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Baselines can be</a:t>
            </a:r>
            <a:endParaRPr b="0" lang="en-US" sz="22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utomatically calculated on a scheduled basis.</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utomatic calculation can be triggered manually.</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Baseline values can be specified manually.</a:t>
            </a:r>
            <a:endParaRPr b="0" lang="en-US" sz="2100" spc="-1" strike="noStrike">
              <a:solidFill>
                <a:srgbClr val="000000"/>
              </a:solidFill>
              <a:latin typeface="Verdana"/>
            </a:endParaRPr>
          </a:p>
          <a:p>
            <a:pPr marL="46980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8T18:47:42Z</dcterms:created>
  <dc:creator>Charles Crouch</dc:creator>
  <dc:description/>
  <dc:language>en-US</dc:language>
  <cp:lastModifiedBy>Charles Crouch</cp:lastModifiedBy>
  <dcterms:modified xsi:type="dcterms:W3CDTF">2005-07-10T19:42:43Z</dcterms:modified>
  <cp:revision>28</cp:revision>
  <dc:subject/>
  <dc:title>GUI Details</dc:title>
</cp:coreProperties>
</file>